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4606-1DEC-4705-9627-7F02ECDF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099-76AD-4F30-81FF-F2C328DB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A8586-38D7-4C98-B57C-A4D69F31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0D8F4-331F-4ABE-B36F-EF863CCA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95280" y="244080"/>
            <a:ext cx="596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9FF12-10FF-460A-BE84-07FD7559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68E03-5C05-4FDB-871E-CD15CDA6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BA867-2F04-49ED-BD5B-B4B5FC18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9EEBF-EBC9-447A-A623-FC5D96B9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446D8-AFCE-4C08-97DE-23DEB9B3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0CC71-DBD7-4885-8150-E82A19CF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6616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652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0666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56616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652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4C503-BA27-4628-8446-082D4492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4D640-F6DF-482C-8BFA-6DBE6EA3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DE1D-A998-48FB-9699-9025527A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1A593-3891-4F1F-A71E-8307BE57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55816-9253-4A71-9B98-FF4D9103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1D37C-46C6-4CF7-B716-D2A4780B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7DE46-F971-42E8-A5F1-90ED3851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244080"/>
            <a:ext cx="596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580CB-A6BE-4F9F-AF40-FD76A855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F19CB-5BB3-4C7C-9D0E-CBC46F52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82A95-BAE0-4028-BD25-098D0E24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D8E78-CA00-40CE-9FC0-3D566D15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DE335-EB7F-48E4-A3CE-6854A3B5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DDFA0-C84B-4705-8F0C-E6776859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6616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652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6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6616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652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911-3B7E-42E5-AF6E-F99366FA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56616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652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10666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56616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652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15095-9B58-4C8D-9D9A-80442222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8E97D-5393-4C39-AA18-FAB080A9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98C82-0638-42CB-90F4-AD2F1F56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A219F-4551-4966-A212-49E61DAE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301FA-2960-4737-8E92-8701CB43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24D64-0F32-4380-8A65-B946D93F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295280" y="244080"/>
            <a:ext cx="596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557D6-EFB7-4788-A82C-3ECA3DA9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E1B7B-1926-4826-A968-9587313B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B4E97-A3E0-458D-9832-B320BD99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9562A-69B7-4989-9D34-7675939D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57A38-5655-4360-B679-4E62956C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4F7C5-6685-4E90-9661-005E4D58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56616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652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0666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56616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652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67CCB-010C-4A3C-8241-2F5FF79F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244080"/>
            <a:ext cx="596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EA98-D4E0-4D74-9C7F-4DEC2111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6616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52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6616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52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A61B-E256-480E-8BEC-81047C23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99D6-BDDF-4347-B537-794CB3C7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F10D-082A-45C6-A928-426E6354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6930-7678-4043-9EFA-C67097F0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353D-E50E-46A0-B02A-75441284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1116-A7EA-40A0-A09D-06C6E4FD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244080"/>
            <a:ext cx="596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C40A-45FC-41A7-ACBB-951CCFA8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351E-D135-450B-9C3E-AC82F95D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0276-5754-43E3-9661-31B4A7A4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6AAC-2B41-4B38-968A-B8334688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1F3F-7634-43D0-B5FB-F435326B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B951-88D0-4844-82BD-5E94A776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6616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652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666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6616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652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4E97-7B6E-4F9F-B518-162CFA92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7E851-1F21-4FA2-ADD4-FEFDF0A1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A7A51-E7BF-45C9-B079-FE1437FC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34EB8-A0EA-4B10-85DA-415A107B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BF9-31D2-41B0-969B-43369D85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E305C-C54D-4920-912D-FADBBEAA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F7CB7-F449-4D9C-9DF0-4FB803F1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95280" y="244080"/>
            <a:ext cx="596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45F20-6AD6-496D-9E5C-FB66D378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B3C80-AC34-42E3-9510-A13947E5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1E0C6-77A0-46FD-907F-D0B2DEFB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A85DB-5817-47C0-BBB0-EF717C9E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5C899-A059-4252-A775-B30FFEFD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C0196-30BA-499F-A11A-91A63E01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6616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652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0666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6616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652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702E6-B23A-4E5B-AA41-FD86EEB2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9B26A-7C63-4982-8CC0-0B594A4E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0E91-125E-410F-AF2C-6131CA1D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87B85-573C-41FF-8334-2F04ED1D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7C328-7F16-43F2-8C1D-45BE846D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EB4DF-EA63-4EFE-A59A-38DD4DC7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0B756-8B79-422B-ABE6-FE99AC8A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95280" y="244080"/>
            <a:ext cx="596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4B8AC-CEC7-4D95-8166-A7A6A00F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FA402-D421-4FBA-AD9F-3B6F05E1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45910-4774-4C61-87F3-D05A368B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B7B13-D0E7-4184-B805-953966E2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77EB1-ED81-423A-8491-A2F727A2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C4144-0911-4726-9E1F-2B5184A9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244080"/>
            <a:ext cx="596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BA1C-0CF1-4E4A-9D90-C687F999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6616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652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0666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6616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652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3AA02-ECAD-4857-BA41-7FFE6961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F4E0A-6543-4A49-999B-CE129FD4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6ABF2-E957-42A0-A194-5C3A0DCF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9F7AF-25A8-4D8C-96AE-C131330D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9D226-48B0-4C67-9566-8205785E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12AFC-45F4-44D9-923D-4BF2331F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95280" y="244080"/>
            <a:ext cx="596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BBD8F-86C7-4325-A581-887FC23B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3F346-61AC-418F-8A71-A4CD9982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AEC5F-8174-4384-9B88-3695542B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ADAF1-5691-48FA-A576-5BB6B208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72F5-BB11-4784-86CD-D832EC06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89848-DE44-4D3F-9292-D40E8BAF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117A9-ABE1-4120-85C8-701CB7CD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6616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652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10666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6616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652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380B8-3C85-4413-9F68-DAA3E2D6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312E9-73D8-431C-B60F-988FDAA3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66DD6-AB2A-41CD-B186-A8FFD4B9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DBB9C-7F46-408E-9190-FA33C17B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341E6-FA1D-47CA-82AC-B3EC74AC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73A1B-A648-46EE-AD2E-2BB12BF1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95280" y="244080"/>
            <a:ext cx="596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E0474-F383-452B-8F43-7DA5EE7B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6430A-AA5F-413A-BB36-08A381CF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0278-DABE-4B52-82D1-A02EEAD6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BC316-C843-4243-8A49-F89A2120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9BDA8-346D-4B53-BD2B-7EAC7BCE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CB6E0-F6A2-4826-8E84-DCFF7F1E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905FF-76D0-49E1-9ED9-94F1FC75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6616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652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0666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56616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652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B6036-5C5B-48B5-90F6-73D281BA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2B53C-EDDF-424A-A6C5-9B5E2C98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35C95-CB7F-4122-815B-F9677DA4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451FB-31F9-4719-9EAE-6888A9E3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94F1F-2D51-4CDD-AC94-A4ADA95F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8468B-A738-4F7E-9C33-D8CD2839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97CD-4A5F-4AE9-835F-87AC6374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95280" y="244080"/>
            <a:ext cx="596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C6F78-F5C3-4DB8-9246-EEBD5BD6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94DF4-44A6-4E3B-A091-98832B84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95B4F-796F-4D48-9DFD-8DE0A4F6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7BCAB-9796-4E1A-AA06-56174612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0490B-C72C-40A2-AB7A-3F97B540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2746A-D695-4465-9C1A-0A6CD5F7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56616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652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0666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56616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652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40D39-E28B-433F-9C4D-0D3ABE50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37CCA-4762-439F-8972-D84C502B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CAECF-DB5F-4ACF-B2D3-8A91B205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79F52-E1C2-4F15-B328-0C0EE9E5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3fbc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October 21, 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Presenting for the P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B1BD-2805-4EA4-86B6-6E54B1577F97}" type="slidenum"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2"/>
          <a:stretch/>
        </p:blipFill>
        <p:spPr>
          <a:xfrm>
            <a:off x="39600" y="60480"/>
            <a:ext cx="876240" cy="8665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2"/>
          <p:cNvSpPr/>
          <p:nvPr/>
        </p:nvSpPr>
        <p:spPr>
          <a:xfrm>
            <a:off x="1012680" y="217440"/>
            <a:ext cx="32040" cy="105264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e7e7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3"/>
          <p:cNvGrpSpPr/>
          <p:nvPr/>
        </p:nvGrpSpPr>
        <p:grpSpPr>
          <a:xfrm>
            <a:off x="152280" y="957240"/>
            <a:ext cx="8686800" cy="49320"/>
            <a:chOff x="152280" y="957240"/>
            <a:chExt cx="8686800" cy="49320"/>
          </a:xfrm>
        </p:grpSpPr>
        <p:pic>
          <p:nvPicPr>
            <p:cNvPr id="7" name="Rectangle 3" descr=""/>
            <p:cNvPicPr/>
            <p:nvPr/>
          </p:nvPicPr>
          <p:blipFill>
            <a:blip r:embed="rId3"/>
            <a:stretch/>
          </p:blipFill>
          <p:spPr>
            <a:xfrm>
              <a:off x="152280" y="957240"/>
              <a:ext cx="8686800" cy="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152280" y="958680"/>
              <a:ext cx="868680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Click to edit the title text format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8" descr=""/>
          <p:cNvPicPr/>
          <p:nvPr/>
        </p:nvPicPr>
        <p:blipFill>
          <a:blip r:embed="rId2"/>
          <a:stretch/>
        </p:blipFill>
        <p:spPr>
          <a:xfrm>
            <a:off x="39600" y="60480"/>
            <a:ext cx="876240" cy="86652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2"/>
          <p:cNvSpPr/>
          <p:nvPr/>
        </p:nvSpPr>
        <p:spPr>
          <a:xfrm>
            <a:off x="1012680" y="217440"/>
            <a:ext cx="32040" cy="105264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e7e7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Rectangle 3"/>
          <p:cNvGrpSpPr/>
          <p:nvPr/>
        </p:nvGrpSpPr>
        <p:grpSpPr>
          <a:xfrm>
            <a:off x="152280" y="957240"/>
            <a:ext cx="8686800" cy="49320"/>
            <a:chOff x="152280" y="957240"/>
            <a:chExt cx="8686800" cy="49320"/>
          </a:xfrm>
        </p:grpSpPr>
        <p:pic>
          <p:nvPicPr>
            <p:cNvPr id="415" name="Rectangle 3" descr=""/>
            <p:cNvPicPr/>
            <p:nvPr/>
          </p:nvPicPr>
          <p:blipFill>
            <a:blip r:embed="rId3"/>
            <a:stretch/>
          </p:blipFill>
          <p:spPr>
            <a:xfrm>
              <a:off x="152280" y="957240"/>
              <a:ext cx="8686800" cy="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152280" y="958680"/>
              <a:ext cx="868680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3fbc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Click to edit the title text format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5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January 18,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6"/>
          </p:nvPr>
        </p:nvSpPr>
        <p:spPr>
          <a:xfrm>
            <a:off x="2666520" y="63244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Program Prioritization for Strategic Decision Ma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73E4-9D76-45CF-9F51-DB8CCA11DF2D}" type="slidenum"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8" descr=""/>
          <p:cNvPicPr/>
          <p:nvPr/>
        </p:nvPicPr>
        <p:blipFill>
          <a:blip r:embed="rId2"/>
          <a:stretch/>
        </p:blipFill>
        <p:spPr>
          <a:xfrm>
            <a:off x="39600" y="60480"/>
            <a:ext cx="876240" cy="86652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2"/>
          <p:cNvSpPr/>
          <p:nvPr/>
        </p:nvSpPr>
        <p:spPr>
          <a:xfrm>
            <a:off x="1012680" y="217440"/>
            <a:ext cx="32040" cy="105264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e7e7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Rectangle 3"/>
          <p:cNvGrpSpPr/>
          <p:nvPr/>
        </p:nvGrpSpPr>
        <p:grpSpPr>
          <a:xfrm>
            <a:off x="152280" y="957240"/>
            <a:ext cx="8686800" cy="49320"/>
            <a:chOff x="152280" y="957240"/>
            <a:chExt cx="8686800" cy="49320"/>
          </a:xfrm>
        </p:grpSpPr>
        <p:pic>
          <p:nvPicPr>
            <p:cNvPr id="461" name="Rectangle 3" descr=""/>
            <p:cNvPicPr/>
            <p:nvPr/>
          </p:nvPicPr>
          <p:blipFill>
            <a:blip r:embed="rId3"/>
            <a:stretch/>
          </p:blipFill>
          <p:spPr>
            <a:xfrm>
              <a:off x="152280" y="957240"/>
              <a:ext cx="8686800" cy="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52280" y="958680"/>
              <a:ext cx="868680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3fbc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Click to edit the title text format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January 18,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520" y="63244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Program Prioritization for Strategic Decision Ma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AEF1-5753-4ADB-8660-FF5DD0493BA8}" type="slidenum"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ject 8" descr=""/>
          <p:cNvPicPr/>
          <p:nvPr/>
        </p:nvPicPr>
        <p:blipFill>
          <a:blip r:embed="rId2"/>
          <a:stretch/>
        </p:blipFill>
        <p:spPr>
          <a:xfrm>
            <a:off x="0" y="0"/>
            <a:ext cx="38160" cy="38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"/>
          <p:cNvPicPr/>
          <p:nvPr/>
        </p:nvPicPr>
        <p:blipFill>
          <a:blip r:embed="rId3"/>
          <a:stretch/>
        </p:blipFill>
        <p:spPr>
          <a:xfrm>
            <a:off x="0" y="66600"/>
            <a:ext cx="3384720" cy="984240"/>
          </a:xfrm>
          <a:prstGeom prst="rect">
            <a:avLst/>
          </a:prstGeom>
          <a:ln w="0">
            <a:noFill/>
          </a:ln>
        </p:spPr>
      </p:pic>
      <p:grpSp>
        <p:nvGrpSpPr>
          <p:cNvPr id="48" name="Rectangle 3"/>
          <p:cNvGrpSpPr/>
          <p:nvPr/>
        </p:nvGrpSpPr>
        <p:grpSpPr>
          <a:xfrm>
            <a:off x="914400" y="2822400"/>
            <a:ext cx="7516800" cy="43200"/>
            <a:chOff x="914400" y="2822400"/>
            <a:chExt cx="7516800" cy="43200"/>
          </a:xfrm>
        </p:grpSpPr>
        <p:pic>
          <p:nvPicPr>
            <p:cNvPr id="49" name="Rectangle 3" descr=""/>
            <p:cNvPicPr/>
            <p:nvPr/>
          </p:nvPicPr>
          <p:blipFill>
            <a:blip r:embed="rId4"/>
            <a:stretch/>
          </p:blipFill>
          <p:spPr>
            <a:xfrm>
              <a:off x="914400" y="2822400"/>
              <a:ext cx="7516800" cy="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14400" y="2822400"/>
              <a:ext cx="7513560" cy="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Rectangle 2"/>
          <p:cNvSpPr/>
          <p:nvPr/>
        </p:nvSpPr>
        <p:spPr>
          <a:xfrm>
            <a:off x="1752480" y="2057400"/>
            <a:ext cx="32040" cy="105264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e7e7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3fbc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Click to edit the title text format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"/>
          <p:cNvPicPr/>
          <p:nvPr/>
        </p:nvPicPr>
        <p:blipFill>
          <a:blip r:embed="rId2"/>
          <a:stretch/>
        </p:blipFill>
        <p:spPr>
          <a:xfrm>
            <a:off x="39600" y="60480"/>
            <a:ext cx="876240" cy="866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1012680" y="217440"/>
            <a:ext cx="32040" cy="105264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e7e7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Rectangle 3"/>
          <p:cNvGrpSpPr/>
          <p:nvPr/>
        </p:nvGrpSpPr>
        <p:grpSpPr>
          <a:xfrm>
            <a:off x="152280" y="957240"/>
            <a:ext cx="8686800" cy="49320"/>
            <a:chOff x="152280" y="957240"/>
            <a:chExt cx="8686800" cy="49320"/>
          </a:xfrm>
        </p:grpSpPr>
        <p:pic>
          <p:nvPicPr>
            <p:cNvPr id="93" name="Rectangle 3" descr=""/>
            <p:cNvPicPr/>
            <p:nvPr/>
          </p:nvPicPr>
          <p:blipFill>
            <a:blip r:embed="rId3"/>
            <a:stretch/>
          </p:blipFill>
          <p:spPr>
            <a:xfrm>
              <a:off x="152280" y="957240"/>
              <a:ext cx="8686800" cy="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52280" y="958680"/>
              <a:ext cx="868680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3fbc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Click to edit the title text format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January 18,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Program Prioritization for Strategic Decision Ma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A535-C8E6-45ED-8717-0025D1114574}" type="slidenum"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"/>
          <p:cNvPicPr/>
          <p:nvPr/>
        </p:nvPicPr>
        <p:blipFill>
          <a:blip r:embed="rId2"/>
          <a:stretch/>
        </p:blipFill>
        <p:spPr>
          <a:xfrm>
            <a:off x="39600" y="60480"/>
            <a:ext cx="876240" cy="8665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1012680" y="217440"/>
            <a:ext cx="32040" cy="105264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e7e7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Rectangle 3"/>
          <p:cNvGrpSpPr/>
          <p:nvPr/>
        </p:nvGrpSpPr>
        <p:grpSpPr>
          <a:xfrm>
            <a:off x="152280" y="957240"/>
            <a:ext cx="8686800" cy="49320"/>
            <a:chOff x="152280" y="957240"/>
            <a:chExt cx="8686800" cy="49320"/>
          </a:xfrm>
        </p:grpSpPr>
        <p:pic>
          <p:nvPicPr>
            <p:cNvPr id="139" name="Rectangle 3" descr=""/>
            <p:cNvPicPr/>
            <p:nvPr/>
          </p:nvPicPr>
          <p:blipFill>
            <a:blip r:embed="rId3"/>
            <a:stretch/>
          </p:blipFill>
          <p:spPr>
            <a:xfrm>
              <a:off x="152280" y="957240"/>
              <a:ext cx="8686800" cy="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52280" y="958680"/>
              <a:ext cx="868680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3fbc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Click to edit the title text format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January 18,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666520" y="63244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Program Prioritization for Strategic Decision Ma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1EF7-6BC0-4424-AB6A-70A408A40141}" type="slidenum"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8" descr=""/>
          <p:cNvPicPr/>
          <p:nvPr/>
        </p:nvPicPr>
        <p:blipFill>
          <a:blip r:embed="rId2"/>
          <a:stretch/>
        </p:blipFill>
        <p:spPr>
          <a:xfrm>
            <a:off x="39600" y="60480"/>
            <a:ext cx="876240" cy="8665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1012680" y="217440"/>
            <a:ext cx="32040" cy="105264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e7e7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Rectangle 3"/>
          <p:cNvGrpSpPr/>
          <p:nvPr/>
        </p:nvGrpSpPr>
        <p:grpSpPr>
          <a:xfrm>
            <a:off x="152280" y="957240"/>
            <a:ext cx="8686800" cy="49320"/>
            <a:chOff x="152280" y="957240"/>
            <a:chExt cx="8686800" cy="49320"/>
          </a:xfrm>
        </p:grpSpPr>
        <p:pic>
          <p:nvPicPr>
            <p:cNvPr id="185" name="Rectangle 3" descr=""/>
            <p:cNvPicPr/>
            <p:nvPr/>
          </p:nvPicPr>
          <p:blipFill>
            <a:blip r:embed="rId3"/>
            <a:stretch/>
          </p:blipFill>
          <p:spPr>
            <a:xfrm>
              <a:off x="152280" y="957240"/>
              <a:ext cx="8686800" cy="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152280" y="958680"/>
              <a:ext cx="868680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3fbc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Click to edit the title text format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January 18,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2666520" y="63244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Program Prioritization for Strategic Decision Ma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15E3-C4C9-4674-950A-C4A49FD4D713}" type="slidenum"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8" descr=""/>
          <p:cNvPicPr/>
          <p:nvPr/>
        </p:nvPicPr>
        <p:blipFill>
          <a:blip r:embed="rId2"/>
          <a:stretch/>
        </p:blipFill>
        <p:spPr>
          <a:xfrm>
            <a:off x="39600" y="60480"/>
            <a:ext cx="876240" cy="8665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"/>
          <p:cNvSpPr/>
          <p:nvPr/>
        </p:nvSpPr>
        <p:spPr>
          <a:xfrm>
            <a:off x="1012680" y="217440"/>
            <a:ext cx="32040" cy="105264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e7e7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Rectangle 3"/>
          <p:cNvGrpSpPr/>
          <p:nvPr/>
        </p:nvGrpSpPr>
        <p:grpSpPr>
          <a:xfrm>
            <a:off x="152280" y="957240"/>
            <a:ext cx="8686800" cy="49320"/>
            <a:chOff x="152280" y="957240"/>
            <a:chExt cx="8686800" cy="49320"/>
          </a:xfrm>
        </p:grpSpPr>
        <p:pic>
          <p:nvPicPr>
            <p:cNvPr id="231" name="Rectangle 3" descr=""/>
            <p:cNvPicPr/>
            <p:nvPr/>
          </p:nvPicPr>
          <p:blipFill>
            <a:blip r:embed="rId3"/>
            <a:stretch/>
          </p:blipFill>
          <p:spPr>
            <a:xfrm>
              <a:off x="152280" y="957240"/>
              <a:ext cx="8686800" cy="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52280" y="958680"/>
              <a:ext cx="868680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3fbc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Click to edit the title text format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January 18,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2666520" y="63244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Program Prioritization for Strategic Decision Ma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02D3-FF59-4E71-8102-7C9E90DA35C2}" type="slidenum"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8" descr=""/>
          <p:cNvPicPr/>
          <p:nvPr/>
        </p:nvPicPr>
        <p:blipFill>
          <a:blip r:embed="rId2"/>
          <a:stretch/>
        </p:blipFill>
        <p:spPr>
          <a:xfrm>
            <a:off x="39600" y="60480"/>
            <a:ext cx="876240" cy="8665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2"/>
          <p:cNvSpPr/>
          <p:nvPr/>
        </p:nvSpPr>
        <p:spPr>
          <a:xfrm>
            <a:off x="1012680" y="217440"/>
            <a:ext cx="32040" cy="105264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e7e7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Rectangle 3"/>
          <p:cNvGrpSpPr/>
          <p:nvPr/>
        </p:nvGrpSpPr>
        <p:grpSpPr>
          <a:xfrm>
            <a:off x="152280" y="957240"/>
            <a:ext cx="8686800" cy="49320"/>
            <a:chOff x="152280" y="957240"/>
            <a:chExt cx="8686800" cy="49320"/>
          </a:xfrm>
        </p:grpSpPr>
        <p:pic>
          <p:nvPicPr>
            <p:cNvPr id="277" name="Rectangle 3" descr=""/>
            <p:cNvPicPr/>
            <p:nvPr/>
          </p:nvPicPr>
          <p:blipFill>
            <a:blip r:embed="rId3"/>
            <a:stretch/>
          </p:blipFill>
          <p:spPr>
            <a:xfrm>
              <a:off x="152280" y="957240"/>
              <a:ext cx="8686800" cy="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52280" y="958680"/>
              <a:ext cx="868680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3fbc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Click to edit the title text format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6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January 18,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7"/>
          </p:nvPr>
        </p:nvSpPr>
        <p:spPr>
          <a:xfrm>
            <a:off x="2666520" y="63244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Program Prioritization for Strategic Decision Ma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2E65-15F0-4513-A74D-E18A79F6E1CE}" type="slidenum"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8" descr=""/>
          <p:cNvPicPr/>
          <p:nvPr/>
        </p:nvPicPr>
        <p:blipFill>
          <a:blip r:embed="rId2"/>
          <a:stretch/>
        </p:blipFill>
        <p:spPr>
          <a:xfrm>
            <a:off x="39600" y="60480"/>
            <a:ext cx="876240" cy="8665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2"/>
          <p:cNvSpPr/>
          <p:nvPr/>
        </p:nvSpPr>
        <p:spPr>
          <a:xfrm>
            <a:off x="1012680" y="217440"/>
            <a:ext cx="32040" cy="105264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e7e7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Rectangle 3"/>
          <p:cNvGrpSpPr/>
          <p:nvPr/>
        </p:nvGrpSpPr>
        <p:grpSpPr>
          <a:xfrm>
            <a:off x="152280" y="957240"/>
            <a:ext cx="8686800" cy="49320"/>
            <a:chOff x="152280" y="957240"/>
            <a:chExt cx="8686800" cy="49320"/>
          </a:xfrm>
        </p:grpSpPr>
        <p:pic>
          <p:nvPicPr>
            <p:cNvPr id="323" name="Rectangle 3" descr=""/>
            <p:cNvPicPr/>
            <p:nvPr/>
          </p:nvPicPr>
          <p:blipFill>
            <a:blip r:embed="rId3"/>
            <a:stretch/>
          </p:blipFill>
          <p:spPr>
            <a:xfrm>
              <a:off x="152280" y="957240"/>
              <a:ext cx="8686800" cy="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152280" y="958680"/>
              <a:ext cx="868680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3fbc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Click to edit the title text format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January 18,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2666520" y="63244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Program Prioritization for Strategic Decision Ma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3204-0828-4DFB-A35A-FAB116D5020C}" type="slidenum"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8" descr=""/>
          <p:cNvPicPr/>
          <p:nvPr/>
        </p:nvPicPr>
        <p:blipFill>
          <a:blip r:embed="rId2"/>
          <a:stretch/>
        </p:blipFill>
        <p:spPr>
          <a:xfrm>
            <a:off x="39600" y="60480"/>
            <a:ext cx="876240" cy="86652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"/>
          <p:cNvSpPr/>
          <p:nvPr/>
        </p:nvSpPr>
        <p:spPr>
          <a:xfrm>
            <a:off x="1012680" y="217440"/>
            <a:ext cx="32040" cy="105264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e7e7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Rectangle 3"/>
          <p:cNvGrpSpPr/>
          <p:nvPr/>
        </p:nvGrpSpPr>
        <p:grpSpPr>
          <a:xfrm>
            <a:off x="152280" y="957240"/>
            <a:ext cx="8686800" cy="49320"/>
            <a:chOff x="152280" y="957240"/>
            <a:chExt cx="8686800" cy="49320"/>
          </a:xfrm>
        </p:grpSpPr>
        <p:pic>
          <p:nvPicPr>
            <p:cNvPr id="369" name="Rectangle 3" descr=""/>
            <p:cNvPicPr/>
            <p:nvPr/>
          </p:nvPicPr>
          <p:blipFill>
            <a:blip r:embed="rId3"/>
            <a:stretch/>
          </p:blipFill>
          <p:spPr>
            <a:xfrm>
              <a:off x="152280" y="957240"/>
              <a:ext cx="8686800" cy="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152280" y="958680"/>
              <a:ext cx="868680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3fbc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Click to edit the title text format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2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January 18,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3"/>
          </p:nvPr>
        </p:nvSpPr>
        <p:spPr>
          <a:xfrm>
            <a:off x="2666520" y="63244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Program Prioritization for Strategic Decision Ma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4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CC61-E704-4D99-9A80-7D54B45E2B43}" type="slidenum"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09680" y="1605600"/>
            <a:ext cx="4770720" cy="11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Presenting for the Pros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676520" y="3200040"/>
            <a:ext cx="6400800" cy="179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fbced"/>
                </a:solidFill>
                <a:latin typeface="Arial"/>
              </a:rPr>
              <a:t>MNN Annual Con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fbced"/>
                </a:solidFill>
                <a:latin typeface="Arial"/>
              </a:rPr>
              <a:t>October 21, 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bced"/>
                </a:solidFill>
                <a:latin typeface="Arial"/>
              </a:rPr>
              <a:t>Susan H. Ogle, ESC Consult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52280" y="5527800"/>
            <a:ext cx="228600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79280" y="2282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pic>
        <p:nvPicPr>
          <p:cNvPr id="533" name="Content Placeholder 6" descr=""/>
          <p:cNvPicPr/>
          <p:nvPr/>
        </p:nvPicPr>
        <p:blipFill>
          <a:blip r:embed="rId1"/>
          <a:stretch/>
        </p:blipFill>
        <p:spPr>
          <a:xfrm>
            <a:off x="3114720" y="3757680"/>
            <a:ext cx="3057480" cy="231444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2"/>
          <p:cNvSpPr/>
          <p:nvPr/>
        </p:nvSpPr>
        <p:spPr>
          <a:xfrm>
            <a:off x="914400" y="1219320"/>
            <a:ext cx="73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f6732"/>
                </a:solidFill>
                <a:latin typeface="Microsoft Sans Serif"/>
                <a:ea typeface="ＭＳ Ｐゴシック"/>
              </a:rPr>
              <a:t>Eat More Cranberries  ! ! ! 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45800" y="380880"/>
            <a:ext cx="7488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Pair Introductions: Using TIPS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838080" y="1212480"/>
            <a:ext cx="7391520" cy="52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, Location, Pos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Experience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of audience (2 to 100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(yearly, monthly , etc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for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/medium/lo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ing: F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5" descr=""/>
          <p:cNvPicPr/>
          <p:nvPr/>
        </p:nvPicPr>
        <p:blipFill>
          <a:blip r:embed="rId1"/>
          <a:stretch/>
        </p:blipFill>
        <p:spPr>
          <a:xfrm>
            <a:off x="6419880" y="4460760"/>
            <a:ext cx="24192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38080" y="1398600"/>
            <a:ext cx="7391520" cy="46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Purpos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learn how positive body language, gestures and voice tone will enable leaders to deliver high impact presen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Proces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ps to use immediately, group discussion and pract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Payoff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be more comfortable, confident and persuasive which can lead to greater levels of su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4580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Presenting for the Pros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820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f6732"/>
                </a:solidFill>
                <a:latin typeface="Microsoft Sans Serif"/>
              </a:rPr>
              <a:t>Thank you for your participation!</a:t>
            </a:r>
            <a:endParaRPr b="1" lang="en-US" sz="4000" spc="-1" strike="noStrike">
              <a:solidFill>
                <a:srgbClr val="ef6732"/>
              </a:solidFill>
              <a:latin typeface="Microsoft Sans Serif"/>
            </a:endParaRPr>
          </a:p>
        </p:txBody>
      </p:sp>
      <p:pic>
        <p:nvPicPr>
          <p:cNvPr id="541" name="Picture 4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38196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838080" y="1371600"/>
            <a:ext cx="7391520" cy="46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Purpos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learn how positive body language, gestures and voice tone will enable leaders to deliver high impact presen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Proces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ps to use immediately, group discussion and pract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Payoff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be more comfortable, confident and persuasive which can lead to greater levels of su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79280" y="2282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Presenting for the Pros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Agenda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838080" y="1406160"/>
            <a:ext cx="7391520" cy="419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 Practice: Introduce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ize Self: Dance! Music! Wor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 Practice: Using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and Answers/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5" descr=""/>
          <p:cNvPicPr/>
          <p:nvPr/>
        </p:nvPicPr>
        <p:blipFill>
          <a:blip r:embed="rId1"/>
          <a:stretch/>
        </p:blipFill>
        <p:spPr>
          <a:xfrm>
            <a:off x="6400800" y="4038480"/>
            <a:ext cx="2143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4883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Pair Introductions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762120" y="121932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, Location, Pos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Experience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of audience (2 to 100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(yearly, monthly , etc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for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/medium/lo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ing: F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5762520" y="45054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06668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The Worst Human Fears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609480" y="1295280"/>
            <a:ext cx="807732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re you most afraid of?” a team of market researchers asked 3,000 Americans.  Many named more than one fear.  The results may surprise you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ggest Fe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Nam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. Speaking before a group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Heigh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Insects and bug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Financial problem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Deep wa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Sick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Dea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Fly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838080" y="5715000"/>
            <a:ext cx="6477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People’s Almanac presents The Book of Lis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David Wallachinsky, Irving Wallace, &amp; Amy Wallac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1294920" y="1523520"/>
            <a:ext cx="3124440" cy="19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nce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sic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d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1880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Energize Yourself!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pic>
        <p:nvPicPr>
          <p:cNvPr id="520" name="Picture 5" descr=""/>
          <p:cNvPicPr/>
          <p:nvPr/>
        </p:nvPicPr>
        <p:blipFill>
          <a:blip r:embed="rId1"/>
          <a:stretch/>
        </p:blipFill>
        <p:spPr>
          <a:xfrm>
            <a:off x="1371600" y="4343400"/>
            <a:ext cx="878040" cy="19051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6" descr=""/>
          <p:cNvPicPr/>
          <p:nvPr/>
        </p:nvPicPr>
        <p:blipFill>
          <a:blip r:embed="rId2"/>
          <a:stretch/>
        </p:blipFill>
        <p:spPr>
          <a:xfrm>
            <a:off x="3048120" y="4267080"/>
            <a:ext cx="2286000" cy="20005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8" descr=""/>
          <p:cNvPicPr/>
          <p:nvPr/>
        </p:nvPicPr>
        <p:blipFill>
          <a:blip r:embed="rId3"/>
          <a:stretch/>
        </p:blipFill>
        <p:spPr>
          <a:xfrm>
            <a:off x="6019920" y="4267080"/>
            <a:ext cx="2381040" cy="1924200"/>
          </a:xfrm>
          <a:prstGeom prst="rect">
            <a:avLst/>
          </a:prstGeom>
          <a:ln w="0">
            <a:noFill/>
          </a:ln>
        </p:spPr>
      </p:pic>
      <p:sp>
        <p:nvSpPr>
          <p:cNvPr id="523" name="TextBox 2"/>
          <p:cNvSpPr/>
          <p:nvPr/>
        </p:nvSpPr>
        <p:spPr>
          <a:xfrm>
            <a:off x="4343400" y="1530360"/>
            <a:ext cx="403848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% Body Langu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% Pitch, Pace, Proje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% What We Sa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47451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10 Presenting Tips 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837720" y="1676520"/>
            <a:ext cx="8001000" cy="39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3680" indent="-463680">
              <a:spcBef>
                <a:spcPts val="3501"/>
              </a:spcBef>
              <a:buClr>
                <a:srgbClr val="3fbce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dien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needs v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alys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3501"/>
              </a:spcBef>
              <a:buClr>
                <a:srgbClr val="3fbce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ly: reduc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ousness (u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phrag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3501"/>
              </a:spcBef>
              <a:buClr>
                <a:srgbClr val="3fbce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al position 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47451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10 Presenting Tips 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762120" y="1676520"/>
            <a:ext cx="8076960" cy="39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3501"/>
              </a:spcBef>
              <a:buClr>
                <a:srgbClr val="3fbced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stu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fu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501"/>
              </a:spcBef>
              <a:buClr>
                <a:srgbClr val="3fbced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ye Cont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oughts: 3-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501"/>
              </a:spcBef>
              <a:buClr>
                <a:srgbClr val="3fbced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time (bra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600-8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pm; speak 125-15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p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1371600" y="4724280"/>
            <a:ext cx="17334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47451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10 Presenting Tips 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762120" y="1600200"/>
            <a:ext cx="8076960" cy="39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spcBef>
                <a:spcPts val="3501"/>
              </a:spcBef>
              <a:buClr>
                <a:srgbClr val="3fbced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 of tone qual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notone, non-w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3501"/>
              </a:spcBef>
              <a:buClr>
                <a:srgbClr val="3fbced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level (loud to sof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3501"/>
              </a:spcBef>
              <a:buClr>
                <a:srgbClr val="3fbced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’re not sure…Don’t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3501"/>
              </a:spcBef>
              <a:buClr>
                <a:srgbClr val="3fbced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ng PIZZAZ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ll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5" descr=""/>
          <p:cNvPicPr/>
          <p:nvPr/>
        </p:nvPicPr>
        <p:blipFill>
          <a:blip r:embed="rId1"/>
          <a:stretch/>
        </p:blipFill>
        <p:spPr>
          <a:xfrm>
            <a:off x="3657600" y="5181480"/>
            <a:ext cx="155268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7T06:32:43Z</dcterms:created>
  <dc:creator>Terry Shemo</dc:creator>
  <dc:description/>
  <dc:language>en-US</dc:language>
  <cp:lastModifiedBy>Elizabeth Donnelly</cp:lastModifiedBy>
  <cp:lastPrinted>2002-04-10T13:33:02Z</cp:lastPrinted>
  <dcterms:modified xsi:type="dcterms:W3CDTF">2015-10-14T13:00:13Z</dcterms:modified>
  <cp:revision>1349</cp:revision>
  <dc:subject/>
  <dc:title>ESC Template</dc:title>
</cp:coreProperties>
</file>